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E35-DF11-4CAE-802D-CA80CD17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85C-9E3C-4D92-B815-11B1596A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C12-DB8C-4810-93FF-44563ACA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259-8CEB-4EEC-9E03-8FB83CC1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701-8FE7-45BC-B4B5-CE523D3C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0B1-992A-4CE0-B073-C0C2DCF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059-234E-42EF-B20F-13DA258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DA3-CD43-40E4-8E17-695A28F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42A-0303-4420-A0DB-C5C5837A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C33-70BE-4F6A-B27B-F1B37F7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C19-0933-4809-977B-270CC22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AD6-B60C-49F8-A59F-8C43038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4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4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4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71D-59A4-4AEC-9B00-4BCA9EB5E6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781360" cy="75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ies of Practice and Professional Work Based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Sue First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Trish Houghton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Ann Winter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Alignment of perspectiv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obilises atten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Addresses conflicting interest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ink communities of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Practice development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nabling opening of the black box of tacit knowledge through drawing attention to how things are done and noticing and articulating what is not said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 en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1:1conversations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Visiting a practice – immersion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4395"/>
                </a:solidFill>
                <a:latin typeface="Arial"/>
              </a:rPr>
              <a:t>Meetings – delegations of communities exchange e.g. Champions meetings, PCT Workforce/Steering groups, Mentor/Assessor preparation workshops, Team meetings – Collective brokering</a:t>
            </a: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ring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embership/Non membership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ultimembership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uzzy Set - neither IN or OUT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visible work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xcit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Challeng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Best of both world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Value is often not recognised (FISH CAN’T SEE WATER)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to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nection of expertise and professional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apid information exchange/advice across/between comm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Analysis and diagnosis of needs and issu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-participation in curriculum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trengthening and improving quality assurance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Ongoing market opport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reate shared tools, standards, documents etc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reative decision making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eliable/positive communication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Effective responses to difficul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Mutual trust and respect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of Knowled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history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evolving language of co-participatio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Shared ways of doing things together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ing mutual relationship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ing Advanced Practitioner Community of Practice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ntinued synthesis of shared meaning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19840" y="2840040"/>
            <a:ext cx="329400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90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New Postgraduate masters programme in Health &amp; Social Care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Tender (June 2004) to  first student intake 7 months (January 2005)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urrently 70 active students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Work based learning commissioned by  NWSHA in partnership with University of Salford, Primary Care Trusts and Ambulance Trust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Purpose is to prepare a workforce for the NHS &amp; Social Care Changing the Workforce programme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ompetency based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Roles are 80% clinically focussed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395"/>
                </a:solidFill>
                <a:latin typeface="Arial"/>
              </a:rPr>
              <a:t>Constant change e.g. SHA and PCT mergers</a:t>
            </a:r>
            <a:endParaRPr b="0" lang="en-US" sz="20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2878200" cy="3944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Practitio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he MSc Advanced Practice programme facilitates the expert development of advanced knowledge and skills in experienced non-medical registered professionals so that in clearly defined circumstances they can provide services hitherto supplied by doctor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Community matron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Run clinics which enhance/replace GP/Consultant servic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riage patients – prevent need to see GP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Examine, diagnose and treat patients with minor injur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 bas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ooking to expert practitioners/organisations to share knowledge and expertise and to engage with us in the development of the new Advanced Practitioner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38120" y="3221280"/>
            <a:ext cx="3608640" cy="2860560"/>
            <a:chOff x="3138120" y="3221280"/>
            <a:chExt cx="3608640" cy="2860560"/>
          </a:xfrm>
        </p:grpSpPr>
        <p:sp>
          <p:nvSpPr>
            <p:cNvPr id="53" name="_s13332"/>
            <p:cNvSpPr/>
            <p:nvPr/>
          </p:nvSpPr>
          <p:spPr>
            <a:xfrm>
              <a:off x="4487040" y="3627360"/>
              <a:ext cx="910440" cy="11631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3325"/>
            <p:cNvSpPr/>
            <p:nvPr/>
          </p:nvSpPr>
          <p:spPr>
            <a:xfrm>
              <a:off x="4487040" y="3221280"/>
              <a:ext cx="910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d reperto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31"/>
            <p:cNvSpPr/>
            <p:nvPr/>
          </p:nvSpPr>
          <p:spPr>
            <a:xfrm>
              <a:off x="4833360" y="4069800"/>
              <a:ext cx="910800" cy="11635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3323"/>
            <p:cNvSpPr/>
            <p:nvPr/>
          </p:nvSpPr>
          <p:spPr>
            <a:xfrm>
              <a:off x="5835960" y="4508280"/>
              <a:ext cx="910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int enterpr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30"/>
            <p:cNvSpPr/>
            <p:nvPr/>
          </p:nvSpPr>
          <p:spPr>
            <a:xfrm>
              <a:off x="4487040" y="4512600"/>
              <a:ext cx="910440" cy="1163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3321"/>
            <p:cNvSpPr/>
            <p:nvPr/>
          </p:nvSpPr>
          <p:spPr>
            <a:xfrm>
              <a:off x="4487040" y="5792400"/>
              <a:ext cx="910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tual eng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29"/>
            <p:cNvSpPr/>
            <p:nvPr/>
          </p:nvSpPr>
          <p:spPr>
            <a:xfrm>
              <a:off x="4140360" y="4069800"/>
              <a:ext cx="910800" cy="11635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3320"/>
            <p:cNvSpPr/>
            <p:nvPr/>
          </p:nvSpPr>
          <p:spPr>
            <a:xfrm>
              <a:off x="3138120" y="4508280"/>
              <a:ext cx="910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anced Practitio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Groups of people who share concerns, passions and a sustained pursuit of shared enterprise, expertise and knowledg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4395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4395"/>
                </a:solidFill>
                <a:latin typeface="Arial"/>
              </a:rPr>
              <a:t>Wenger E (1998) Communities of Practice. Learning, Meaning and Identity. Cambridge University Press</a:t>
            </a:r>
            <a:endParaRPr b="0" lang="en-US" sz="1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dependent community  who have been brought together in a collective manner to make sense of  being an Advanced Practitioner and to do the job of providing a learning curriculum supported by work based learning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ellations of 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Discipline specific – GP’s, hospital doctors, nurses, midwives, health visitors, physiotherapists, podiatrists etc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Primary Care Trusts x9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Health Centr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NWSHA- Workforce &amp; Modernisation, Champion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University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Programme team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rainee Advanced Practitioner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08360" y="1599840"/>
            <a:ext cx="28796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240000" cy="38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spot a C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est in developing tools, documents, use of language indicative of learning organis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Participation (varying levels) in the development of advancing knowledge and experience of being an Advanced Practitioner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Interpersonal engagement with us ie course committee membership, championing role within organisation, collegiate and positive manner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Negotiating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ring Work Bas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The University community includes 3 Learning Facilitators whose major role is to broker work based learning opportunities: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i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between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- across communities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439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4395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282888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Making new connections across/between communiti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Open new possibilities of meaning of Advanced Practitioner rol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acilitate access/activities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Legitimising participation of Trainee Advanced Practitioner in Community of Practice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Facilitate interpret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4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4395"/>
                </a:solidFill>
                <a:latin typeface="Arial"/>
              </a:rPr>
              <a:t>Enable co-ordination</a:t>
            </a: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4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n Wi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07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4:50Z</dcterms:created>
  <dc:creator>mum</dc:creator>
  <dc:description/>
  <dc:language>en-US</dc:language>
  <cp:lastModifiedBy>mum</cp:lastModifiedBy>
  <dcterms:modified xsi:type="dcterms:W3CDTF">2006-07-03T20:57:57Z</dcterms:modified>
  <cp:revision>14</cp:revision>
  <dc:subject/>
  <dc:title>Slide 1</dc:title>
</cp:coreProperties>
</file>